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83A-BBD6-47ED-92C9-54DC55A4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04D-CD90-4649-A232-7A0D13F2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009-8349-46E0-BF9A-22105F64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2F1-8CE2-4D01-8F05-E5FE2B5D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6059-D736-4D55-BA48-FBB9964D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134E-215D-4621-9E47-00D51F7C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28B5-5316-4A3F-9146-247757A9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501B-6114-4752-93E4-1A81DFC1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04BB-8ACD-4BE6-8228-BE3A9B25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2435-4ECC-4464-A9F7-FBC30F17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0835-49DC-4550-9345-7F35583F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92A-8AAE-4094-8CD9-A569E789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78D4-23A3-421E-83C7-BD3EE3DC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8515-B584-4430-BEFB-44F733C9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1282-CDF5-4CF0-9312-B91131E5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AE07-0BDE-40F5-8C7E-368611BD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FFC6-D981-4C7A-B149-D1DCD7C5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A28-11D4-4523-B565-41582BB4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416-7100-47C1-9181-796ED7B0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9E6-0BDA-4848-94EA-3150648A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8130-CBDA-455C-88C1-424A46E6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646-C117-403F-A9B8-CE619C76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122-193B-4B25-BCC7-793D4273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BA5-74FF-4148-94C3-9F81AB10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BA7F-5648-4C04-B84F-189A93418A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C0FA-9B42-484B-BEDC-90DD56707D9C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1327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b7"/>
                </a:solidFill>
                <a:latin typeface="Arial Black"/>
              </a:rPr>
              <a:t>Identificação de fatores de adoecimento da Justiça Federal Fórum de Maceió-AL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47239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s. Enfª Socorro Alé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ocorroalecio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23480" cy="30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ffb7"/>
                </a:solidFill>
                <a:latin typeface="Arial Black"/>
              </a:rPr>
              <a:t>Levantamento dos fatores de risco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1280" y="2924280"/>
            <a:ext cx="716112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ís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Biológ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rgonôm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isco de acid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Quim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b7"/>
                </a:solidFill>
                <a:latin typeface="Arial Black"/>
              </a:rPr>
              <a:t>Risco ergonômico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6560" y="3068280"/>
            <a:ext cx="694548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plicado o questionário de Couto para escritório onde foram identificados os risco  alto, </a:t>
            </a: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médio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 e baixo para as doenças osteomuscula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b7"/>
                </a:solidFill>
                <a:latin typeface="Arial Black"/>
              </a:rPr>
              <a:t>Ações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lestras educa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istribuição de folders explicativos sobre LER/D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Verificação da glicemia capilar e do colesterol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la motivacional  de alongam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Ginastica labo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b7"/>
                </a:solidFill>
                <a:latin typeface="Arial Black"/>
              </a:rPr>
              <a:t>Propostas de intervençõ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oca de pisos do carpete para cerâmic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lhora da iluminaçã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peza do ar-condiciona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de cortinas nas janelas das varas para diminuir a luminosida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stituição das pausas durantes as digitações nas salas de audiência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de programas de voz nas salas de audiênc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lantação da Ginástica laboral considerando o perfil epidemiológico de cada seto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tilização dos mouses ergonômico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pras de estações de trabalho mais adequadas de acordo a NR17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b7"/>
                </a:solidFill>
                <a:latin typeface="Arial Black"/>
              </a:rPr>
              <a:t>Arquiv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valiação clinica cardio respiratória dos servid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edição da luminosidade,umidade relativa do ar e aplicação do questionario de Couto para escritó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steriormente treinamento para uso de EPI de acordo o trabalho no arquivo geral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b7"/>
                </a:solidFill>
                <a:latin typeface="Arial Black"/>
              </a:rPr>
              <a:t>Conclusã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trega do relatório final do diretor do Fórum para implantação das sugestõ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6:00:58Z</dcterms:created>
  <dc:creator>socorro.alecio</dc:creator>
  <dc:description/>
  <dc:language>en-US</dc:language>
  <cp:lastModifiedBy>Fenajufe</cp:lastModifiedBy>
  <dcterms:modified xsi:type="dcterms:W3CDTF">2014-10-11T13:08:55Z</dcterms:modified>
  <cp:revision>11</cp:revision>
  <dc:subject/>
  <dc:title>Perfil Epidemiológico do TRT19º</dc:title>
</cp:coreProperties>
</file>